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opardy.wav" ContentType="audio/x-wav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830B-156B-44BA-86D4-76C71E1FB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86F3-160F-4269-AFC0-A526C36E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BC77-9488-49C0-B15F-D8358B4D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48EC-BA7D-4348-9A58-FFF4C30C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BC3F-DCAC-45ED-ADB7-B31E5C79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F9B5-B655-479A-9795-08BCC735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B4EC-87EA-4C5F-B03C-4AD8906D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36D9-26CE-48E8-B902-A9231671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7732-871E-44EC-98F3-8833198D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E550-A456-4B63-8AFD-8CEA71A3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6A32-09BC-464B-AA7C-F5535A5E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CFB2-C10A-45A7-B8B7-B9C61072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2542-E51A-4750-8B1B-07D7DD275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ct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pct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4.xml"/><Relationship Id="rId3" Type="http://schemas.openxmlformats.org/officeDocument/2006/relationships/slide" Target="slide29.xml"/><Relationship Id="rId4" Type="http://schemas.openxmlformats.org/officeDocument/2006/relationships/slide" Target="slide5.xml"/><Relationship Id="rId5" Type="http://schemas.openxmlformats.org/officeDocument/2006/relationships/slide" Target="slide10.xml"/><Relationship Id="rId6" Type="http://schemas.openxmlformats.org/officeDocument/2006/relationships/slide" Target="slide15.xml"/><Relationship Id="rId7" Type="http://schemas.openxmlformats.org/officeDocument/2006/relationships/slide" Target="slide20.xml"/><Relationship Id="rId8" Type="http://schemas.openxmlformats.org/officeDocument/2006/relationships/slide" Target="slide6.xml"/><Relationship Id="rId9" Type="http://schemas.openxmlformats.org/officeDocument/2006/relationships/slide" Target="slide11.xml"/><Relationship Id="rId10" Type="http://schemas.openxmlformats.org/officeDocument/2006/relationships/slide" Target="slide16.xml"/><Relationship Id="rId11" Type="http://schemas.openxmlformats.org/officeDocument/2006/relationships/slide" Target="slide21.xml"/><Relationship Id="rId12" Type="http://schemas.openxmlformats.org/officeDocument/2006/relationships/slide" Target="slide7.xml"/><Relationship Id="rId13" Type="http://schemas.openxmlformats.org/officeDocument/2006/relationships/slide" Target="slide12.xml"/><Relationship Id="rId14" Type="http://schemas.openxmlformats.org/officeDocument/2006/relationships/slide" Target="slide17.xml"/><Relationship Id="rId15" Type="http://schemas.openxmlformats.org/officeDocument/2006/relationships/slide" Target="slide22.xml"/><Relationship Id="rId16" Type="http://schemas.openxmlformats.org/officeDocument/2006/relationships/slide" Target="slide8.xml"/><Relationship Id="rId17" Type="http://schemas.openxmlformats.org/officeDocument/2006/relationships/slide" Target="slide13.xml"/><Relationship Id="rId18" Type="http://schemas.openxmlformats.org/officeDocument/2006/relationships/slide" Target="slide18.xml"/><Relationship Id="rId1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1066680"/>
            <a:ext cx="777240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This Is</a:t>
            </a:r>
            <a:endParaRPr b="0" lang="en-US" sz="2400" spc="1" strike="noStrike">
              <a:ln w="2556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Jeopardy</a:t>
            </a:r>
            <a:endParaRPr b="0" lang="en-US" sz="2400" spc="1" strike="noStrike">
              <a:ln w="2556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p:transition>
    <p:newsflash/>
    <p:sndAc>
      <p:stSnd>
        <p:snd r:embed="rId1" name="jeopardy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20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btracting Fractions &amp; Mixed Nu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695760" y="2927520"/>
                <a:ext cx="17524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30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btracting Fractions &amp; Mixed Nu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1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1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1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733920" y="2906640"/>
                <a:ext cx="160020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btracting Fractions &amp; Mixed Nu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699000" y="2801880"/>
                <a:ext cx="174780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−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50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btracting Fractions &amp; Mixed Nu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6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6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0" y="0"/>
          <a:ext cx="6573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57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0"/>
          <a:ext cx="6573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657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0"/>
          <a:ext cx="65736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657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657600" y="2946240"/>
                <a:ext cx="19051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plying Fractions &amp; Mixed Nu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316908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the probability of picking a black sock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Decimal For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010040" y="2743200"/>
                <a:ext cx="112392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´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  Multiplying Fractions &amp; Mixed Nu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220968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600200"/>
            <a:ext cx="4038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950200"/>
            <a:ext cx="3733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the probability of picking a black or brown s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ercent For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809880" y="2954160"/>
                <a:ext cx="137160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923760" y="561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7280" y="5605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previousslide"/>
          </p:cNvPr>
          <p:cNvSpPr/>
          <p:nvPr/>
        </p:nvSpPr>
        <p:spPr>
          <a:xfrm>
            <a:off x="380880" y="5715000"/>
            <a:ext cx="685800" cy="73836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38360"/>
              <a:gd name="textAreaBottom" fmla="*/ 694080 h 738360"/>
            </a:gdLst>
            <a:ahLst/>
            <a:rect l="textAreaLeft" t="textAreaTop" r="textAreaRight" b="textAreaBottom"/>
            <a:pathLst>
              <a:path w="21600" h="23255">
                <a:moveTo>
                  <a:pt x="0" y="0"/>
                </a:moveTo>
                <a:lnTo>
                  <a:pt x="21600" y="0"/>
                </a:lnTo>
                <a:lnTo>
                  <a:pt x="21600" y="23255"/>
                </a:lnTo>
                <a:lnTo>
                  <a:pt x="0" y="23255"/>
                </a:lnTo>
                <a:close/>
              </a:path>
              <a:path fill="lightenLess" w="21600" h="232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5">
                <a:moveTo>
                  <a:pt x="21600" y="0"/>
                </a:moveTo>
                <a:lnTo>
                  <a:pt x="21600" y="23255"/>
                </a:lnTo>
                <a:lnTo>
                  <a:pt x="20200" y="21855"/>
                </a:lnTo>
                <a:lnTo>
                  <a:pt x="20200" y="1400"/>
                </a:lnTo>
                <a:close/>
              </a:path>
              <a:path fill="darkenLess" w="21600" h="23255">
                <a:moveTo>
                  <a:pt x="21600" y="23255"/>
                </a:moveTo>
                <a:lnTo>
                  <a:pt x="0" y="23255"/>
                </a:lnTo>
                <a:lnTo>
                  <a:pt x="1400" y="21855"/>
                </a:lnTo>
                <a:lnTo>
                  <a:pt x="20200" y="21855"/>
                </a:lnTo>
                <a:close/>
              </a:path>
              <a:path fill="lighten" w="21600" h="23255">
                <a:moveTo>
                  <a:pt x="0" y="232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5"/>
                </a:lnTo>
                <a:close/>
              </a:path>
              <a:path fill="darken" w="21600" h="23255">
                <a:moveTo>
                  <a:pt x="10800" y="4664"/>
                </a:moveTo>
                <a:lnTo>
                  <a:pt x="13376" y="7275"/>
                </a:lnTo>
                <a:lnTo>
                  <a:pt x="13376" y="5535"/>
                </a:lnTo>
                <a:lnTo>
                  <a:pt x="15152" y="5535"/>
                </a:lnTo>
                <a:lnTo>
                  <a:pt x="15152" y="9051"/>
                </a:lnTo>
                <a:lnTo>
                  <a:pt x="17763" y="11627"/>
                </a:lnTo>
                <a:lnTo>
                  <a:pt x="16109" y="11627"/>
                </a:lnTo>
                <a:lnTo>
                  <a:pt x="16109" y="18817"/>
                </a:lnTo>
                <a:lnTo>
                  <a:pt x="5491" y="18817"/>
                </a:lnTo>
                <a:lnTo>
                  <a:pt x="5491" y="11627"/>
                </a:lnTo>
                <a:lnTo>
                  <a:pt x="3837" y="11627"/>
                </a:lnTo>
                <a:close/>
              </a:path>
              <a:path fill="darkenLess" w="21600" h="23255">
                <a:moveTo>
                  <a:pt x="13376" y="7275"/>
                </a:moveTo>
                <a:lnTo>
                  <a:pt x="13376" y="5535"/>
                </a:lnTo>
                <a:lnTo>
                  <a:pt x="15152" y="5535"/>
                </a:lnTo>
                <a:lnTo>
                  <a:pt x="15152" y="9051"/>
                </a:lnTo>
                <a:close/>
              </a:path>
              <a:path fill="darkenLess" w="21600" h="23255">
                <a:moveTo>
                  <a:pt x="9877" y="15126"/>
                </a:moveTo>
                <a:lnTo>
                  <a:pt x="11723" y="15126"/>
                </a:lnTo>
                <a:lnTo>
                  <a:pt x="11723" y="18817"/>
                </a:lnTo>
                <a:lnTo>
                  <a:pt x="16109" y="18817"/>
                </a:lnTo>
                <a:lnTo>
                  <a:pt x="16109" y="11627"/>
                </a:lnTo>
                <a:lnTo>
                  <a:pt x="5491" y="11627"/>
                </a:lnTo>
                <a:lnTo>
                  <a:pt x="5491" y="18817"/>
                </a:lnTo>
                <a:lnTo>
                  <a:pt x="9877" y="1881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 Multiplying Fractions &amp; Mixed Nu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657600" y="3046320"/>
                <a:ext cx="20574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´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  <m:r>
                      <m:t xml:space="preserve">´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 Multiplying Fractions &amp; Mixed Nu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3960" y="265284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99716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highest temperature?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lowest temperature?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505320" y="2779560"/>
                <a:ext cx="17524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Multiplying Fractions &amp; Mixed Nu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22680" y="2797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352680" y="2851200"/>
                <a:ext cx="236232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10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041720" y="2438280"/>
                <a:ext cx="62568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95280" y="685800"/>
            <a:ext cx="6553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1ff"/>
                </a:solidFill>
                <a:latin typeface="Arial Black"/>
              </a:rPr>
              <a:t>Unit 3: 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43200" y="2438280"/>
            <a:ext cx="380376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20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mplif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041720" y="2438280"/>
                <a:ext cx="62568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30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mplif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156200" y="2743200"/>
                <a:ext cx="6998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mplif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049640" y="2514600"/>
                <a:ext cx="6238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50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mplifying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266688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919680" y="2666880"/>
                <a:ext cx="110952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10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Finding LC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(aka least common multi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3 and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20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Finding LC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(aka least common multi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1160" y="2057040"/>
            <a:ext cx="7200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898800" y="3200400"/>
                <a:ext cx="13464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nd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300              Finding LC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(aka least common multi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52560" y="2286000"/>
            <a:ext cx="7238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4160" y="4572000"/>
            <a:ext cx="357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695760" y="3124080"/>
                <a:ext cx="175248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nd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Finding LC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(aka least common multi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5105520"/>
            <a:ext cx="1974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276720"/>
            <a:ext cx="4191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49680" y="3220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657600" y="2833560"/>
                <a:ext cx="1828800" cy="11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50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Finding LC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(aka least common multi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807696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581280" y="3048120"/>
                <a:ext cx="19814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10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olv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2+5x3-6÷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0"/>
          <a:ext cx="676440" cy="3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764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0" y="0"/>
          <a:ext cx="676440" cy="31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6764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0" y="0"/>
          <a:ext cx="676440" cy="31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6764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0" y="0"/>
          <a:ext cx="676440" cy="314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6764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0"/>
          <a:ext cx="676440" cy="314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0"/>
                    <a:ext cx="6764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219320" y="228600"/>
            <a:ext cx="67053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ath Jeopardy</a:t>
            </a:r>
            <a:endParaRPr b="0" lang="en-US" sz="2400" spc="1" strike="noStrike">
              <a:ln w="1908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09480" y="1295280"/>
          <a:ext cx="7925040" cy="5349960"/>
        </p:xfrm>
        <a:graphic>
          <a:graphicData uri="http://schemas.openxmlformats.org/drawingml/2006/table">
            <a:tbl>
              <a:tblPr/>
              <a:tblGrid>
                <a:gridCol w="1238400"/>
                <a:gridCol w="1403280"/>
                <a:gridCol w="1320840"/>
                <a:gridCol w="1403280"/>
                <a:gridCol w="1238400"/>
                <a:gridCol w="1320840"/>
              </a:tblGrid>
              <a:tr h="99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dding Fractions &amp; Mixed Numb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ubtracting Fractions &amp; Mixed Numb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ultiplying Fractions &amp; Mixed Numb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implify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nding L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or least common multip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" action="ppaction://hlinksldjump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2" action="ppaction://hlinksldjump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3" action="ppaction://hlinksldjump"/>
                        </a:rPr>
                        <a:t>$</a:t>
                      </a:r>
                      <a:r>
                        <a:rPr b="0" lang="en-US" sz="1800" spc="-1" strike="noStrike" u="sng">
                          <a:solidFill>
                            <a:srgbClr val="aee5f0"/>
                          </a:solidFill>
                          <a:uFillTx/>
                          <a:latin typeface="Arial Black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4" action="ppaction://hlinksldjump"/>
                        </a:rPr>
                        <a:t>$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5" action="ppaction://hlinksldjump"/>
                        </a:rPr>
                        <a:t>$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6" action="ppaction://hlinksldjump"/>
                        </a:rPr>
                        <a:t>$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7" action="ppaction://hlinksldjump"/>
                        </a:rPr>
                        <a:t>$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8" action="ppaction://hlinksldjump"/>
                        </a:rPr>
                        <a:t>$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9" action="ppaction://hlinksldjump"/>
                        </a:rPr>
                        <a:t>$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0" action="ppaction://hlinksldjump"/>
                        </a:rPr>
                        <a:t>$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1" action="ppaction://hlinksldjump"/>
                        </a:rPr>
                        <a:t>$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2" action="ppaction://hlinksldjump"/>
                        </a:rPr>
                        <a:t>$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3" action="ppaction://hlinksldjump"/>
                        </a:rPr>
                        <a:t>$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4" action="ppaction://hlinksldjump"/>
                        </a:rPr>
                        <a:t>$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5" action="ppaction://hlinksldjump"/>
                        </a:rPr>
                        <a:t>$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6" action="ppaction://hlinksldjump"/>
                        </a:rPr>
                        <a:t>$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7" action="ppaction://hlinksldjump"/>
                        </a:rPr>
                        <a:t>$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8" action="ppaction://hlinksldjump"/>
                        </a:rPr>
                        <a:t>$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200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in standard f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7x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(3x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(9x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0" y="0"/>
          <a:ext cx="60012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00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300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in exponential f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2,05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90920" y="57150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400 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the function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643280" y="1981080"/>
          <a:ext cx="3129120" cy="4496040"/>
        </p:xfrm>
        <a:graphic>
          <a:graphicData uri="http://schemas.openxmlformats.org/drawingml/2006/table">
            <a:tbl>
              <a:tblPr/>
              <a:tblGrid>
                <a:gridCol w="1565280"/>
                <a:gridCol w="1563840"/>
              </a:tblGrid>
              <a:tr h="112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le:       5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3200400" y="2514600"/>
          <a:ext cx="27432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51460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>
            <a:hlinkClick r:id="" action="ppaction://hlinkshowjump?jump=previousslide"/>
          </p:cNvPr>
          <p:cNvSpPr/>
          <p:nvPr/>
        </p:nvSpPr>
        <p:spPr>
          <a:xfrm>
            <a:off x="457200" y="5867280"/>
            <a:ext cx="533520" cy="433440"/>
          </a:xfrm>
          <a:custGeom>
            <a:avLst/>
            <a:gdLst>
              <a:gd name="textAreaLeft" fmla="*/ 28080 w 533520"/>
              <a:gd name="textAreaRight" fmla="*/ 505440 w 5335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6583" h="21600">
                <a:moveTo>
                  <a:pt x="0" y="0"/>
                </a:moveTo>
                <a:lnTo>
                  <a:pt x="26583" y="0"/>
                </a:lnTo>
                <a:lnTo>
                  <a:pt x="26583" y="21600"/>
                </a:lnTo>
                <a:lnTo>
                  <a:pt x="0" y="21600"/>
                </a:lnTo>
                <a:close/>
              </a:path>
              <a:path fill="lightenLess" w="26583" h="21600">
                <a:moveTo>
                  <a:pt x="0" y="0"/>
                </a:moveTo>
                <a:lnTo>
                  <a:pt x="26583" y="0"/>
                </a:lnTo>
                <a:lnTo>
                  <a:pt x="25183" y="1400"/>
                </a:lnTo>
                <a:lnTo>
                  <a:pt x="1400" y="1400"/>
                </a:lnTo>
                <a:close/>
              </a:path>
              <a:path fill="darken" w="26583" h="21600">
                <a:moveTo>
                  <a:pt x="26583" y="0"/>
                </a:moveTo>
                <a:lnTo>
                  <a:pt x="26583" y="21600"/>
                </a:lnTo>
                <a:lnTo>
                  <a:pt x="25183" y="20200"/>
                </a:lnTo>
                <a:lnTo>
                  <a:pt x="25183" y="1400"/>
                </a:lnTo>
                <a:close/>
              </a:path>
              <a:path fill="darkenLess" w="26583" h="21600">
                <a:moveTo>
                  <a:pt x="265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3" y="20200"/>
                </a:lnTo>
                <a:close/>
              </a:path>
              <a:path fill="lighten" w="265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3" h="21600">
                <a:moveTo>
                  <a:pt x="13292" y="3837"/>
                </a:moveTo>
                <a:lnTo>
                  <a:pt x="15868" y="6448"/>
                </a:lnTo>
                <a:lnTo>
                  <a:pt x="15868" y="4707"/>
                </a:lnTo>
                <a:lnTo>
                  <a:pt x="17643" y="4707"/>
                </a:lnTo>
                <a:lnTo>
                  <a:pt x="17643" y="8224"/>
                </a:lnTo>
                <a:lnTo>
                  <a:pt x="20255" y="10800"/>
                </a:lnTo>
                <a:lnTo>
                  <a:pt x="18601" y="10800"/>
                </a:lnTo>
                <a:lnTo>
                  <a:pt x="18601" y="17989"/>
                </a:lnTo>
                <a:lnTo>
                  <a:pt x="7982" y="17989"/>
                </a:lnTo>
                <a:lnTo>
                  <a:pt x="7982" y="10800"/>
                </a:lnTo>
                <a:lnTo>
                  <a:pt x="6329" y="10800"/>
                </a:lnTo>
                <a:close/>
              </a:path>
              <a:path fill="darkenLess" w="26583" h="21600">
                <a:moveTo>
                  <a:pt x="15868" y="6448"/>
                </a:moveTo>
                <a:lnTo>
                  <a:pt x="15868" y="4707"/>
                </a:lnTo>
                <a:lnTo>
                  <a:pt x="17643" y="4707"/>
                </a:lnTo>
                <a:lnTo>
                  <a:pt x="17643" y="8224"/>
                </a:lnTo>
                <a:close/>
              </a:path>
              <a:path fill="darkenLess" w="26583" h="21600">
                <a:moveTo>
                  <a:pt x="12369" y="14299"/>
                </a:moveTo>
                <a:lnTo>
                  <a:pt x="14214" y="14299"/>
                </a:lnTo>
                <a:lnTo>
                  <a:pt x="14214" y="17989"/>
                </a:lnTo>
                <a:lnTo>
                  <a:pt x="18601" y="17989"/>
                </a:lnTo>
                <a:lnTo>
                  <a:pt x="18601" y="10800"/>
                </a:lnTo>
                <a:lnTo>
                  <a:pt x="7982" y="10800"/>
                </a:lnTo>
                <a:lnTo>
                  <a:pt x="7982" y="17989"/>
                </a:lnTo>
                <a:lnTo>
                  <a:pt x="12369" y="1798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50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when x =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 - x ÷ 6 + 4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ing Fractions &amp; Mixed Numb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581280" y="3162240"/>
                <a:ext cx="16099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20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ing Fractions &amp; Mixed Numb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352680" y="2911320"/>
                <a:ext cx="221004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30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ing Fractions &amp; Mixed Numb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862440" y="3251160"/>
                <a:ext cx="170028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ing Fractions &amp; Mixed Numb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581280" y="2879640"/>
                <a:ext cx="14479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50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ing Fractions &amp; Mixed Numb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the expression w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7086600" y="2438280"/>
                <a:ext cx="7621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733920" y="3441600"/>
                <a:ext cx="140652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10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btracting Fractions &amp; Mixed Nu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6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6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657600" y="2946240"/>
                <a:ext cx="16002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14:38:00Z</dcterms:created>
  <dc:creator>Brian McGrath</dc:creator>
  <dc:description/>
  <dc:language>en-US</dc:language>
  <cp:lastModifiedBy>Brian McGrath</cp:lastModifiedBy>
  <dcterms:modified xsi:type="dcterms:W3CDTF">2010-11-13T16:33:38Z</dcterms:modified>
  <cp:revision>2</cp:revision>
  <dc:subject/>
  <dc:title>PowerPoint Presentation</dc:title>
</cp:coreProperties>
</file>